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BCE84-2775-4674-BF75-430A1DA54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1D7B2-19B5-4DE7-8762-66916CB26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FD013-41AA-4AF7-B3DA-1677F42DE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BEEB1-0F27-42AE-B406-CC9CA4DFC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EAB1E-E264-423D-8A03-05C31929D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A4CFA-7B01-471E-84CD-BF5F276BE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F575E-FF62-4712-A75E-24CC05A42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F9FAF-6F3C-47CD-B39B-59B867685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48AE2-83CF-4E19-B466-458063667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C9B8A-01C8-4BDF-A4C4-552A2C7C1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80BEC-677A-46FB-96DD-B32B1A678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15E81-F7A7-4A30-8627-456B55D48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B6255-404B-43AB-94A5-AA50212A32C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152280" y="-360"/>
            <a:ext cx="8229600" cy="65530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ntergrund:  You and your partner(s) are Grammy critics talking about the results of the 2015 Grammy’s.  Think in terms of this being a 2 – 5 minute TV spo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ments: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roduc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7 pictures from the Grammy’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inions on the winners/songs/performance or clothing choice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reement/disagreement on the winners 2/4/5</a:t>
            </a:r>
            <a:endParaRPr b="0" lang="en-US" sz="1800" spc="-1" strike="noStrike">
              <a:solidFill>
                <a:srgbClr val="000000"/>
              </a:solidFill>
              <a:latin typeface="Calibri"/>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alk about why you liked certain songs (rhythm, singer’s voice, instruments) or certain outfits</a:t>
            </a:r>
            <a:endParaRPr b="0" lang="en-US" sz="15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rn/lieber/am liebsten (all 3 must be mentioned) (2 if alon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t/besser/am besten (all 3 must be mentioned) (2 if alon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do you think about…? (How do you find…)” Not for person alone**</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I think…(I find)”</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od-bye</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w this will be presented:</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and your partner will present this in front of the class while your pictures show in the background.  All pictures must be loaded on the google drive in presentation mode and shared with me.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 script needs to be handed in to me, as well.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will have one day in the computer lab to find pictures and information.  The script can be hand written or typed.  If you choose to put it on the google drive to share with me, it CANNOT be attached to your picture slide.  </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76320" y="-381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tra Vokabeln</a:t>
            </a:r>
            <a:endParaRPr b="0" lang="en-US" sz="3600" spc="-1" strike="noStrike">
              <a:solidFill>
                <a:srgbClr val="000000"/>
              </a:solidFill>
              <a:latin typeface="Calibri"/>
            </a:endParaRPr>
          </a:p>
        </p:txBody>
      </p:sp>
      <p:sp>
        <p:nvSpPr>
          <p:cNvPr id="43" name=""/>
          <p:cNvSpPr txBox="1"/>
          <p:nvPr/>
        </p:nvSpPr>
        <p:spPr>
          <a:xfrm>
            <a:off x="76320" y="304920"/>
            <a:ext cx="9067680" cy="624816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ch bin damit (nicht) einverstanden.  - I agree (no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r sprechen über (+ akk). (Ich spreche über…)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r Rhythmus – rhythm</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ftakt – upbeat/ langsam – slow</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fit (n)– outfi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orstellung (f)- performanc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ed (n) – song</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tegorie (f) – category</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ng des Jahre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ste neue Kunstler</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ste Album des Jahre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e Beste Sänger des Jahre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ste (Solo*) Performanz in ______________ Bereich</a:t>
            </a:r>
            <a:endParaRPr b="0" lang="en-US" sz="18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p</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Hip Hop</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tal</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Rock</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uo/Gruppe*</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Instrumentalischem</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ap</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Tanz</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ternativ</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R und B</a:t>
            </a:r>
            <a:endParaRPr b="0" lang="en-US" sz="1600" spc="-1" strike="noStrike">
              <a:solidFill>
                <a:srgbClr val="000000"/>
              </a:solidFill>
              <a:latin typeface="Calibri"/>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ospel</a:t>
            </a:r>
            <a:endParaRPr b="0" lang="en-US" sz="16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ste Album in ____________ Bereich</a:t>
            </a:r>
            <a:endParaRPr b="0" lang="en-US" sz="1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5T20:31:51Z</dcterms:created>
  <dc:creator>Alissa Hart</dc:creator>
  <dc:description/>
  <dc:language>en-US</dc:language>
  <cp:lastModifiedBy>Alissa Hart</cp:lastModifiedBy>
  <dcterms:modified xsi:type="dcterms:W3CDTF">2015-02-05T20:33:35Z</dcterms:modified>
  <cp:revision>1</cp:revision>
  <dc:subject/>
  <dc:title>PowerPoint Presentation</dc:title>
</cp:coreProperties>
</file>